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FA7-6B59-4138-BED1-20A52EBA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78A-FAC9-4F60-914D-450E803C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F12-35C3-4625-8BF4-85DD038E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0B1-0EEA-4DBE-A9F8-6A7393FC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18E-EB61-41C6-A805-BE62B881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B33-5473-4982-96E3-C972BB79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4E1-0ABD-4915-B79C-FD050B2E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200-49FC-42ED-B735-B0B7F1D2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02E-D365-4E73-A657-E03AF755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FC3-CE1C-4665-A590-897ABC51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82A1-19E4-4C3F-A607-C02F8173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4886-0A6B-4A56-ADF9-1D420CFC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D474-F4DA-428B-BF7C-DED7FD29E2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5808-A470-40CD-A381-55344246A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100" spc="-1" strike="noStrike" u="sng">
                <a:solidFill>
                  <a:srgbClr val="ffffff"/>
                </a:solidFill>
                <a:uFillTx/>
                <a:latin typeface="Verdana"/>
              </a:rPr>
              <a:t>DADA COLLAGE OR POSTE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228600" y="403848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GOAL: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Using images from popular culture, make a statement about our socie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dbusters_flag.bmp"/>
          <p:cNvPicPr/>
          <p:nvPr/>
        </p:nvPicPr>
        <p:blipFill>
          <a:blip r:embed="rId1"/>
          <a:stretch/>
        </p:blipFill>
        <p:spPr>
          <a:xfrm>
            <a:off x="1509840" y="1066680"/>
            <a:ext cx="6262560" cy="343692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6553080" y="64771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ATHANIEL BOOM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da used satire to ridicule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satir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edians often use satire… an exampl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funnyordie.com/videos/d8e838fb1a/george-bush-george-w-bush-hunting-from-nino?rel=by_u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kipedia says:   In satire, vices, follies, abuses, and shortcomings are held up to ridicule, ideally with the intent of shaming individuals, and society itself, into improvement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[1]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though satire is usually meant to be funny, its greater purpose is constructive social criticism, using wit as a weap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le 1"/>
          <p:cNvSpPr/>
          <p:nvPr/>
        </p:nvSpPr>
        <p:spPr>
          <a:xfrm>
            <a:off x="228600" y="403848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mages are everywhere!  Use creativity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absoluteaa_1"/>
          <p:cNvPicPr/>
          <p:nvPr/>
        </p:nvPicPr>
        <p:blipFill>
          <a:blip r:embed="rId1"/>
          <a:srcRect l="19565" t="0" r="22824" b="0"/>
          <a:stretch/>
        </p:blipFill>
        <p:spPr>
          <a:xfrm>
            <a:off x="2895480" y="419040"/>
            <a:ext cx="40388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304920" y="4419720"/>
            <a:ext cx="8686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ada artists wanted to attack and ridicule socie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ausmann_artcritic2.jpg"/>
          <p:cNvPicPr/>
          <p:nvPr/>
        </p:nvPicPr>
        <p:blipFill>
          <a:blip r:embed="rId1"/>
          <a:stretch/>
        </p:blipFill>
        <p:spPr>
          <a:xfrm>
            <a:off x="2571840" y="228600"/>
            <a:ext cx="3905280" cy="503568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6477120" y="1066680"/>
            <a:ext cx="25905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is man was an art critic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-76320" y="1066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tice his eyes and mouth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bigmac.jpg"/>
          <p:cNvPicPr/>
          <p:nvPr/>
        </p:nvPicPr>
        <p:blipFill>
          <a:blip r:embed="rId1"/>
          <a:stretch/>
        </p:blipFill>
        <p:spPr>
          <a:xfrm>
            <a:off x="1390680" y="1457280"/>
            <a:ext cx="63626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nike_1.jpg"/>
          <p:cNvPicPr/>
          <p:nvPr/>
        </p:nvPicPr>
        <p:blipFill>
          <a:blip r:embed="rId1"/>
          <a:stretch/>
        </p:blipFill>
        <p:spPr>
          <a:xfrm>
            <a:off x="-152280" y="343080"/>
            <a:ext cx="928188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04:53:06Z</dcterms:created>
  <dc:creator>profile</dc:creator>
  <dc:description/>
  <dc:language>en-US</dc:language>
  <cp:lastModifiedBy>Gabriel Swiderski</cp:lastModifiedBy>
  <dcterms:modified xsi:type="dcterms:W3CDTF">2010-08-16T05:03:46Z</dcterms:modified>
  <cp:revision>4</cp:revision>
  <dc:subject/>
  <dc:title>Slide 1</dc:title>
</cp:coreProperties>
</file>